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A98B-28F6-41E1-82CB-C33142CC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9D8E-2119-48B1-91B8-7162BF0E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4C55-745D-45B8-8051-3A28339D0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72A3-1684-47F3-A988-13810F0F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98D0-4A78-4324-A0A3-AA50AC5D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15BD-6F57-48B9-B2C7-D50B4681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04E2-20E0-47A1-AE0D-74BBE8E9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9CF0-181C-4A47-B388-258E6B64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4C34-CFC3-4777-93B8-F7D97F45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850C-0BCD-407E-BB28-A60F8669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290C-283E-4CF2-8A87-945964EC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047B-E65E-4177-B33D-A5559BB3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4DDD-BD1C-4CED-8487-BFC786855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_ Clase 6nh (602)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4 de febrero de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3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les son los deportes populares en el mundo hispa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Quién es tu deportista  favorito/a?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808200"/>
            <a:ext cx="876312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Los deportes en el mundo hispan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22-23, en voz al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23 (1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B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23 (1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 un compañero, 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C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2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p. 14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57200" y="4343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th?id=I"/>
          <p:cNvPicPr/>
          <p:nvPr/>
        </p:nvPicPr>
        <p:blipFill>
          <a:blip r:embed="rId1"/>
          <a:stretch/>
        </p:blipFill>
        <p:spPr>
          <a:xfrm>
            <a:off x="0" y="-1440"/>
            <a:ext cx="8991720" cy="68007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béisbol es muy popular en México, Honduras, Nicaragua, Panamá, Venezuela, partes de Colombia y el Japón. También es el deporte MAS popular de Cuba, Puerto Rico y La Republica Dominic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odos estos países tienen algo en común.  En algún momento de su historia hubo una base naval americana o presencia de la militar americ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uando estos soldados tenían tiempo libre, ellos jugaban el béisbol y los habitantes de los países los miraban jugar. Fue así que aprendieron el deporte y en algunos países, como en el caribe y Panamá, el béisbol se convirtió en el deporte 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609480" y="25884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Arial"/>
              </a:rPr>
              <a:t>La geografía y el béis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14:49:12Z</dcterms:created>
  <dc:creator>Helen Zumaeta</dc:creator>
  <dc:description/>
  <dc:language>en-US</dc:language>
  <cp:lastModifiedBy>Helen Zumaeta</cp:lastModifiedBy>
  <cp:lastPrinted>2013-02-13T23:06:33Z</cp:lastPrinted>
  <dcterms:modified xsi:type="dcterms:W3CDTF">2013-02-14T17:31:14Z</dcterms:modified>
  <cp:revision>12</cp:revision>
  <dc:subject/>
  <dc:title>Me llamo ___________ Clase 7IM La fecha es el 4 de febrero del 2011</dc:title>
</cp:coreProperties>
</file>